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0DD69-B28A-4DE4-B1A3-6052A828D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1B692-529D-4462-B441-FBD737D0F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F50F9-A78B-427E-8A53-1E635B404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4841D-B3F2-4463-939C-B87BF63B9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074F1-31AD-4762-AC4F-E33D67B6E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0ECE9-54E3-476B-B8CC-E0A756A30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1D496-7E5D-4AF1-846F-591FDA62F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DFAC1-4A37-4906-88BA-9A6E36E86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71BB5-1D05-4D40-9702-4A0403A6F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85B33-F44E-41E7-88B8-BB28FBF98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D473B-C833-425D-8A71-97C21C5A7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0B187-63CC-4E0A-891B-341F6799D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C84F5-F66A-4AD3-BA2F-A86F276E6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F4A51-6C3F-4683-997E-5F5A7BE99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93E20-E326-4229-8779-E35162D4B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9789B-4DA3-4E3C-8484-1796B6CAD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5C68A-A017-4517-9422-BA049DA5F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2F905-4C95-4309-A01A-738C3139F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E141D-8198-45CE-8B50-6EF6FBC82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2A6C0-83D5-4565-8047-1E7CE165C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F2698-AE13-4945-8018-C8380D34D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5A018-57FF-4171-9601-5EAA9B885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1E355-D90A-4144-A310-EDAD9A004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2E138-66A8-49B6-8BB9-4C0C3CDB9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B1E1B-FD66-4E63-AC9B-4EB5E34D4948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8EEA0-2E89-46AA-9785-2851B5462C45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ZASADY DYNAMIKI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NEWTON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47960" y="5334120"/>
            <a:ext cx="40129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gr Dorota Szczerbet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04680" y="414720"/>
            <a:ext cx="7638840" cy="42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914040"/>
            <a:ext cx="716292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Doświadczeni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Na stole połóż kartkę (np. A4), a na niej książkę z fizyki (lub piórnik). Następnie wyciągnij (poziomo) kartkę. Najpierw powoli, a potem dość energiczni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Co obserwujesz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1760" y="488160"/>
            <a:ext cx="792468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61760" y="762120"/>
            <a:ext cx="792468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eśli kartkę wyciągasz powoli, to przesuwa się ona wraz z książką (lub piórnikiem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eśli kartkę wyciągniesz dość energicznie, to książka (lub piórnik) pozostanie na swoim miejsc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laczeg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nieważ książka (lub piórnik) „nie chce” zmieniać swojego dotychczasowego stanu – była w spoczynku      i chce w nim pozostać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61760" y="335520"/>
            <a:ext cx="792468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61760" y="304920"/>
            <a:ext cx="792468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świadczenie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waga! Do tego doświadczenia potrzebna jest wprawa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 stole połóż obrus, a na nim talerze i/lub kubki. Następnie dość energicznie pociągnij za obrus.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 obserwujesz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lerze i/lub kubki zostają na miejsc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Jak to wyjaśnisz?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może potrafisz tak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k ten mężczyzn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3522600" y="4648320"/>
            <a:ext cx="1459080" cy="1952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61760" y="335520"/>
            <a:ext cx="792468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4400" y="456840"/>
            <a:ext cx="77724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świadczenie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 szklance połóż kartę, a na niej monetę. Następnie szybko wyciągnij kartę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 obserwujesz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eta wpada do szklank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Jak to wyjaśnisz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4038480" y="2438280"/>
            <a:ext cx="1513080" cy="1676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29440" y="1210320"/>
            <a:ext cx="7789320" cy="93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ibliografia</a:t>
            </a:r>
            <a:br>
              <a:rPr sz="2800"/>
            </a:b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762120" y="2514600"/>
            <a:ext cx="8229600" cy="35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G.Francuz – Ornat, T.Kulawik, M.Nowotny – Różańska, </a:t>
            </a: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Spotkania z fizyką, podręcznik dla gimnazjum, część 3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, Nowa Era, Warszawa 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https://www.googl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 zasada dynamiki Newton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Arial"/>
              </a:rPr>
              <a:t>(zasada bezwładności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 zasada dynamiki Newtona</a:t>
            </a:r>
            <a:br>
              <a:rPr sz="3600"/>
            </a:b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3177720"/>
            <a:ext cx="7693200" cy="29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eżeli na ciało nie działają żadne siły lub działające siły równoważą się, to ciało pozostaje w spoczynku lub porusza się ruchem jednostajnym prostoliniowy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447920" y="3505320"/>
            <a:ext cx="2077920" cy="243828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83908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zykładem sytuacji, w której siły działające na ciało równoważą się, a ciało porusza się ruchem jednostajnym, jest opadanie skoczka z otwartym spadochronem.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 opadającego w powietrz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koczka ze spadochronem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ziała skierowana w dół sił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ch ciężaru oraz skierowana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 górę siła oporu powietrza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ły te równoważą się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spadochroniarz opad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chem jednostajnym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 zasada dynamiki Newtona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est nazywana zasadą bezwładnośc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33520" y="2361960"/>
            <a:ext cx="365256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ezwładność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cecha ciała polegająca na tym, że ciało dąży do zachowania stanu (ruchu lub spoczynku),         w którym się znajduj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183280" y="2361960"/>
            <a:ext cx="33480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a jest miarą bezwładności ciał (łatwiej jest zatrzymać czy wprawić w ruch piłkę niż samochó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1906200" y="2863440"/>
            <a:ext cx="5697720" cy="16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ezwładność obserwujem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iemal codzienni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280" y="34200"/>
            <a:ext cx="8839440" cy="42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580920" y="1066680"/>
            <a:ext cx="541044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mowanie podczas jazdy samochodem lub autobus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eśli poruszamy się przodem do kierunku jazdy i kierowca zacznie hamować, to nasze ciało przesunie się do przodu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laczego?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nieważ poruszało się do przodu  i nadal chce zachować swój stan – ruch do przod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990720" y="2514600"/>
            <a:ext cx="2743200" cy="18302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04680" y="305280"/>
            <a:ext cx="763884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733920" y="837720"/>
            <a:ext cx="4952880" cy="52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dczas ruszania auta               z miejsc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dy samochód rusza, to nasze ciało zostaje „wciśnięte” w fot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laczeg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sze ciało było                   w spoczynku i nadal chce pozostać w tym stanie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990720" y="2438280"/>
            <a:ext cx="2819160" cy="1884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685800" y="2743200"/>
            <a:ext cx="7934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ezwładność możemy zaobserwowa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 wielu doświadczeniac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31T21:46:26Z</dcterms:created>
  <dc:creator>admin</dc:creator>
  <dc:description/>
  <dc:language>en-US</dc:language>
  <cp:lastModifiedBy>Badyl</cp:lastModifiedBy>
  <dcterms:modified xsi:type="dcterms:W3CDTF">2014-04-28T12:41:46Z</dcterms:modified>
  <cp:revision>2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